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CBE-59D9-4120-942F-DB265A2E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F27-5622-48D3-A37D-57A67CB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234-B0E3-4EE6-8147-7E35118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BC5-F598-4869-A847-B33C64A5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AC9-4AD8-4C68-8E6D-2344006B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83C-7630-4A16-9009-C63F881E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CFD-7AD6-4EEA-8F84-3A9B61B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E68-0695-4027-BD7D-F8AD8F35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9E9-369A-4096-8A24-EDEB395D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EF1-9553-40FE-86C8-8C0FC1C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43F-49AC-4653-8D92-9E1CB5D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4E4-89CE-44D5-8E97-14F171F5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493-2BC3-43A7-9780-52D8E3E6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52280"/>
            <a:ext cx="83822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отът във вода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3962520"/>
            <a:ext cx="8744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овекът и природата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 клас, изд. "Просвета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6477120"/>
            <a:ext cx="4800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на Господинова, ЧОУ "Веда", Соф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. Вървял съм назад по дъното на морето! И какво от това?! Някой знае ли закъде съм тръгнал? Не! Не ме ядосвайте, че ще ви ощип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380880"/>
            <a:ext cx="914400" cy="4038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 txBox="1"/>
          <p:nvPr/>
        </p:nvSpPr>
        <p:spPr>
          <a:xfrm>
            <a:off x="2895480" y="3200400"/>
            <a:ext cx="5943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реда на жив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1523880"/>
            <a:ext cx="4648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0" y="1460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486080"/>
            <a:ext cx="7162560" cy="537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04920" y="152280"/>
            <a:ext cx="838188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вариум - водно жилищ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36708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14000" y="56386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ъ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9040" y="50655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п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8480" y="2844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200400" cy="213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4248000"/>
            <a:ext cx="3124080" cy="2610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3733920" cy="232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1480" y="175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40480" y="20574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2880" y="42670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 кон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8480" y="284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НАСЕК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88468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2463840" cy="369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5640" y="156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б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3440" y="22860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а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198108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ъдроглав пел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7400" y="2844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3048120" cy="2513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6720" y="415116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ва гъ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0"/>
            <a:ext cx="8839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блатата, реките и езера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6680" y="2844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И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72000" cy="27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4176720"/>
            <a:ext cx="3752640" cy="2681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410080" y="1981080"/>
            <a:ext cx="3581640" cy="268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 rot="21258000">
            <a:off x="512280" y="4238640"/>
            <a:ext cx="4038840" cy="224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7080" y="18288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рвеноп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017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7000" y="62485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520" y="4456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9880" y="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ОДО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186440" cy="454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057560" cy="285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67080" y="1523880"/>
            <a:ext cx="3448080" cy="2586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867280" y="3352680"/>
            <a:ext cx="3073680" cy="2881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44080" y="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БЕЗГРЪБНА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5920" y="6248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960" y="15238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а 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00" y="14079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д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9640" y="5791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и 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4495680" cy="301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733920" cy="247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4038480" cy="2382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75440" y="0"/>
            <a:ext cx="11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И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7080" y="1600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ум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62880" y="1484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л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120" y="39988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87320" y="4303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0"/>
            <a:ext cx="7696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 на вода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3440" y="19810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ЕЩЕСТВ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без цвят, без вкус, без мири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озрач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20" y="3276720"/>
            <a:ext cx="81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ТЯЛ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течност, има маса и обем, няма фор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8640" y="4191120"/>
            <a:ext cx="83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ВОЙСТВА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 не гори, разтваря други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880" y="5105520"/>
            <a:ext cx="774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РАЗТВАРЯ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 сол, захар, цветни и аромат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вещества, възду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7560" y="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Е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20760" y="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БОЗАЙ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3114720"/>
            <a:ext cx="3051360" cy="374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114800" y="3997440"/>
            <a:ext cx="486720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52280" y="1295280"/>
            <a:ext cx="3505320" cy="2262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48320" y="1501920"/>
            <a:ext cx="3886200" cy="307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6360" y="13320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ит каша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93680" y="16002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53560" y="62848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лф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59440" y="62085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254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4647960" cy="309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52280" y="0"/>
            <a:ext cx="8763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бреговете на моретата и океанит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9320" y="0"/>
            <a:ext cx="14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4152960" cy="2765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791320" y="3352680"/>
            <a:ext cx="3206520" cy="327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67560" y="1332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а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5520" y="1484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лбат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3520" y="6172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реве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1800" y="62085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рска 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0880" y="0"/>
            <a:ext cx="8382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ловия за живо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752480"/>
            <a:ext cx="3809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СВЕТ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8954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ТОПЛ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1148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ВЪЗД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5005440"/>
            <a:ext cx="23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ХРА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686800" y="3809880"/>
            <a:ext cx="2286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2886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15120" y="4572000"/>
            <a:ext cx="33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Човек, сравнен с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на различни видове кит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905120" y="1522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анен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20" y="1473120"/>
            <a:ext cx="503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Някои от водните животни се хранят с дребни водорасли. Други ловят насекоми или по-дребни риби. Хората използват за храна някои водора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и много риби. Но има риби, които хапват и хор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2971800"/>
            <a:ext cx="2210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8862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87692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4100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3244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920" y="0"/>
            <a:ext cx="8381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 н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336240" y="1704960"/>
            <a:ext cx="9899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Растения и животни във и около блата и рек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папур, тръстика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водно конче, комар, сом, ша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2. Живот в морета и океани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–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мида, меду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морска звезда,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риби (скумрия, калкан), бозайниц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(делфин, тюлен, ки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3. Условия за живот във водна среда – светл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cc"/>
                </a:solidFill>
                <a:latin typeface="Arial"/>
              </a:rPr>
              <a:t>топлина, въздух, х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62120" y="304920"/>
            <a:ext cx="77724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ихте чудесно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ца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304920"/>
            <a:ext cx="80769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 на въздух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7480" y="2467080"/>
            <a:ext cx="771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ЕЩЕСТВ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без цвят, без вкус, без мири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прозрачен, усеща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24760" y="3886200"/>
            <a:ext cx="74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ТЯЛО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газ, има маса, няма обем и фор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0" y="5029200"/>
            <a:ext cx="906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ВОЙСТВА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 поддържа горенето, движи се (вятър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заема място, по-лек от во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7560" y="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Е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. Ние сме малки зелени растения и покриваме камъните в реката. Внимавайте, като стъпвате по нас, може да се подхлъзнете и да пад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9760" y="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РЪСТ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3505320" y="3200400"/>
            <a:ext cx="487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. Аз съм дребно досадно насекомо. Обичам да забивам хоботчето си във вас. Само че вие не ме обичате, защото ви излизат пъпки, които ви сър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8080" y="3200400"/>
          <a:ext cx="1981440" cy="8888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606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505320" y="3200400"/>
            <a:ext cx="4876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. А аз съм с красиво прозрачно чадърче, плувам в морето. Внимавайте, ако ме пипнете, мога да ви оп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523880" y="609480"/>
          <a:ext cx="6095880" cy="8128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8080" y="1447920"/>
          <a:ext cx="3353040" cy="812520"/>
        </p:xfrm>
        <a:graphic>
          <a:graphicData uri="http://schemas.openxmlformats.org/drawingml/2006/table">
            <a:tbl>
              <a:tblPr/>
              <a:tblGrid>
                <a:gridCol w="670680"/>
                <a:gridCol w="670680"/>
                <a:gridCol w="670320"/>
                <a:gridCol w="670680"/>
                <a:gridCol w="6706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2286000"/>
          <a:ext cx="4038840" cy="88884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2840"/>
                <a:gridCol w="673200"/>
                <a:gridCol w="673200"/>
                <a:gridCol w="6732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на Господинова, ЧОУ "Веда", Соф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56</cp:lastModifiedBy>
  <dcterms:modified xsi:type="dcterms:W3CDTF">2011-02-03T07:53:2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